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3E1-845D-4A58-A115-0B4B61A1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E15-54B1-4990-A58D-8A269DA8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B61-6C4A-4F65-9C34-D13A4A52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046-6F4E-4907-ADE2-1F22420C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B79-20AF-4266-8892-0671D3BA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FEE-3253-419D-BD1A-2A5981D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D20-A5EA-4708-BDA9-AC1EF0B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B80-206F-4B5C-9446-4856DEE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FB7-5902-4D05-9D5F-B231E0E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B9E-9C9A-4655-BFCB-AC51FCF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FB4-C216-44BE-A69A-825C033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BE8-3D3E-4483-9E6F-C6AA42E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892-6E15-454B-A97A-F7253549050E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hyperlink" Target="http://images.google.co.cr/imgres?imgurl=http://www.minco.com.ve/jpg/productos/procesados/carneHamburguesa.jpg&amp;imgrefurl=http://www.minco.com.ve/productosProcesados.html&amp;h=197&amp;w=300&amp;sz=10&amp;hl=es&amp;start=10&amp;tbnid=tGJGWpvKTwkn-M:&amp;tbnh=76&amp;tbnw=116&amp;prev=/images%3Fq%3Dhamburguesa%26gbv%3D2%26hl%3Des" TargetMode="External"/><Relationship Id="rId47" Type="http://schemas.openxmlformats.org/officeDocument/2006/relationships/image" Target="../media/image46.png"/><Relationship Id="rId48" Type="http://schemas.openxmlformats.org/officeDocument/2006/relationships/hyperlink" Target="http://images.google.co.cr/imgres?imgurl=http://www.fotos.org/galeria/data/548/medium/amarillo-mostaza.jpg&amp;imgrefurl=http://www.fotos.org/galeria/showphoto.php/photo/5779&amp;h=700&amp;w=541&amp;sz=23&amp;hl=es&amp;start=1&amp;tbnid=_xk3eRTBe2CmwM:&amp;tbnh=140&amp;tbnw=108&amp;prev=/images%3Fq%3Dmostaza%26gbv%3D2%26hl%3Des" TargetMode="External"/><Relationship Id="rId49" Type="http://schemas.openxmlformats.org/officeDocument/2006/relationships/image" Target="../media/image47.jpeg"/><Relationship Id="rId50" Type="http://schemas.openxmlformats.org/officeDocument/2006/relationships/hyperlink" Target="http://images.google.co.cr/imgres?imgurl=http://www.salood.com/wp-content/uploads/2007/11/salsa_tomate.jpg&amp;imgrefurl=http://www.salood.com/salsa-de-tomate-casera/en/&amp;h=356&amp;w=363&amp;sz=26&amp;hl=es&amp;start=2&amp;tbnid=tYaIxBWjmzSy1M:&amp;tbnh=119&amp;tbnw=121&amp;prev=/images%3Fq%3Dtomate%26gbv%3D2%26hl%3Des" TargetMode="External"/><Relationship Id="rId51" Type="http://schemas.openxmlformats.org/officeDocument/2006/relationships/image" Target="../media/image48.jpeg"/><Relationship Id="rId52" Type="http://schemas.openxmlformats.org/officeDocument/2006/relationships/hyperlink" Target="http://images.google.co.cr/imgres?imgurl=http://imagenes.hola.com/noticias-de-actualidad/2007/08/16/pepino_imagen.jpg&amp;imgrefurl=http://www.hola.com/noticias-de-actualidad/16-08-2007/24/&amp;h=275&amp;w=320&amp;sz=12&amp;hl=es&amp;start=11&amp;tbnid=bcmMIuzf2GzUWM:&amp;tbnh=101&amp;tbnw=118&amp;prev=/images%3Fq%3Dpepino%26gbv%3D2%26hl%3Des" TargetMode="External"/><Relationship Id="rId53" Type="http://schemas.openxmlformats.org/officeDocument/2006/relationships/image" Target="../media/image49.jpeg"/><Relationship Id="rId54" Type="http://schemas.openxmlformats.org/officeDocument/2006/relationships/image" Target="../media/image50.jpeg"/><Relationship Id="rId5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68 Grupo"/>
          <p:cNvGrpSpPr/>
          <p:nvPr/>
        </p:nvGrpSpPr>
        <p:grpSpPr>
          <a:xfrm>
            <a:off x="357120" y="500040"/>
            <a:ext cx="7000920" cy="5715000"/>
            <a:chOff x="357120" y="500040"/>
            <a:chExt cx="7000920" cy="5715000"/>
          </a:xfrm>
        </p:grpSpPr>
        <p:grpSp>
          <p:nvGrpSpPr>
            <p:cNvPr id="42" name="11 Grupo"/>
            <p:cNvGrpSpPr/>
            <p:nvPr/>
          </p:nvGrpSpPr>
          <p:grpSpPr>
            <a:xfrm>
              <a:off x="2044440" y="500040"/>
              <a:ext cx="3740040" cy="1485720"/>
              <a:chOff x="2044440" y="500040"/>
              <a:chExt cx="3740040" cy="1485720"/>
            </a:xfrm>
          </p:grpSpPr>
          <p:grpSp>
            <p:nvGrpSpPr>
              <p:cNvPr id="43" name="7 Flecha doblada"/>
              <p:cNvGrpSpPr/>
              <p:nvPr/>
            </p:nvGrpSpPr>
            <p:grpSpPr>
              <a:xfrm>
                <a:off x="3940920" y="1015920"/>
                <a:ext cx="1843560" cy="969840"/>
                <a:chOff x="3940920" y="1015920"/>
                <a:chExt cx="1843560" cy="969840"/>
              </a:xfrm>
            </p:grpSpPr>
            <p:pic>
              <p:nvPicPr>
                <p:cNvPr id="44" name="7 Flecha doblada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40920" y="1015920"/>
                  <a:ext cx="184356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" name=""/>
                <p:cNvSpPr/>
                <p:nvPr/>
              </p:nvSpPr>
              <p:spPr>
                <a:xfrm rot="5400000">
                  <a:off x="4430880" y="616680"/>
                  <a:ext cx="865800" cy="17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" name="5 Flecha doblada"/>
              <p:cNvGrpSpPr/>
              <p:nvPr/>
            </p:nvGrpSpPr>
            <p:grpSpPr>
              <a:xfrm>
                <a:off x="2044440" y="1015920"/>
                <a:ext cx="1866960" cy="969840"/>
                <a:chOff x="2044440" y="1015920"/>
                <a:chExt cx="1866960" cy="969840"/>
              </a:xfrm>
            </p:grpSpPr>
            <p:pic>
              <p:nvPicPr>
                <p:cNvPr id="47" name="5 Flecha doblada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4440" y="1015920"/>
                  <a:ext cx="186696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" name=""/>
                <p:cNvSpPr/>
                <p:nvPr/>
              </p:nvSpPr>
              <p:spPr>
                <a:xfrm rot="16200000">
                  <a:off x="2547720" y="608400"/>
                  <a:ext cx="865800" cy="17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6 Rectángulo"/>
              <p:cNvGrpSpPr/>
              <p:nvPr/>
            </p:nvGrpSpPr>
            <p:grpSpPr>
              <a:xfrm>
                <a:off x="3545280" y="500040"/>
                <a:ext cx="821160" cy="844920"/>
                <a:chOff x="3545280" y="500040"/>
                <a:chExt cx="821160" cy="844920"/>
              </a:xfrm>
            </p:grpSpPr>
            <p:pic>
              <p:nvPicPr>
                <p:cNvPr id="50" name="6 Rectángul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45280" y="500040"/>
                  <a:ext cx="82116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3605760" y="534240"/>
                  <a:ext cx="70488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" name="12 Grupo"/>
            <p:cNvGrpSpPr/>
            <p:nvPr/>
          </p:nvGrpSpPr>
          <p:grpSpPr>
            <a:xfrm>
              <a:off x="1132200" y="2094840"/>
              <a:ext cx="2006640" cy="1485720"/>
              <a:chOff x="1132200" y="2094840"/>
              <a:chExt cx="2006640" cy="1485720"/>
            </a:xfrm>
          </p:grpSpPr>
          <p:grpSp>
            <p:nvGrpSpPr>
              <p:cNvPr id="53" name="13 Flecha doblada"/>
              <p:cNvGrpSpPr/>
              <p:nvPr/>
            </p:nvGrpSpPr>
            <p:grpSpPr>
              <a:xfrm>
                <a:off x="2124000" y="2612880"/>
                <a:ext cx="1014840" cy="967680"/>
                <a:chOff x="2124000" y="2612880"/>
                <a:chExt cx="1014840" cy="967680"/>
              </a:xfrm>
            </p:grpSpPr>
            <p:pic>
              <p:nvPicPr>
                <p:cNvPr id="54" name="13 Flecha doblada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24000" y="2612880"/>
                  <a:ext cx="101484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5400000">
                  <a:off x="2198520" y="2626200"/>
                  <a:ext cx="86904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14 Flecha doblada"/>
              <p:cNvGrpSpPr/>
              <p:nvPr/>
            </p:nvGrpSpPr>
            <p:grpSpPr>
              <a:xfrm>
                <a:off x="1132200" y="2612880"/>
                <a:ext cx="1026360" cy="967680"/>
                <a:chOff x="1132200" y="2612880"/>
                <a:chExt cx="1026360" cy="967680"/>
              </a:xfrm>
            </p:grpSpPr>
            <p:pic>
              <p:nvPicPr>
                <p:cNvPr id="57" name="14 Flecha doblada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32200" y="2612880"/>
                  <a:ext cx="102636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6200000">
                  <a:off x="1212120" y="2621880"/>
                  <a:ext cx="869040" cy="91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15 Rectángulo"/>
              <p:cNvGrpSpPr/>
              <p:nvPr/>
            </p:nvGrpSpPr>
            <p:grpSpPr>
              <a:xfrm>
                <a:off x="1916280" y="2094840"/>
                <a:ext cx="478440" cy="842400"/>
                <a:chOff x="1916280" y="2094840"/>
                <a:chExt cx="478440" cy="842400"/>
              </a:xfrm>
            </p:grpSpPr>
            <p:pic>
              <p:nvPicPr>
                <p:cNvPr id="60" name="15 Rectángul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16280" y="2094840"/>
                  <a:ext cx="478440" cy="8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1973880" y="2126880"/>
                  <a:ext cx="369000" cy="74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16 Grupo"/>
            <p:cNvGrpSpPr/>
            <p:nvPr/>
          </p:nvGrpSpPr>
          <p:grpSpPr>
            <a:xfrm>
              <a:off x="4553280" y="2094840"/>
              <a:ext cx="2052360" cy="1485720"/>
              <a:chOff x="4553280" y="2094840"/>
              <a:chExt cx="2052360" cy="1485720"/>
            </a:xfrm>
          </p:grpSpPr>
          <p:grpSp>
            <p:nvGrpSpPr>
              <p:cNvPr id="63" name="17 Flecha doblada"/>
              <p:cNvGrpSpPr/>
              <p:nvPr/>
            </p:nvGrpSpPr>
            <p:grpSpPr>
              <a:xfrm>
                <a:off x="5567760" y="2612880"/>
                <a:ext cx="1037880" cy="967680"/>
                <a:chOff x="5567760" y="2612880"/>
                <a:chExt cx="1037880" cy="967680"/>
              </a:xfrm>
            </p:grpSpPr>
            <p:pic>
              <p:nvPicPr>
                <p:cNvPr id="64" name="17 Flecha doblada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567760" y="2612880"/>
                  <a:ext cx="103788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5400000">
                  <a:off x="5652000" y="2615760"/>
                  <a:ext cx="86904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18 Flecha doblada"/>
              <p:cNvGrpSpPr/>
              <p:nvPr/>
            </p:nvGrpSpPr>
            <p:grpSpPr>
              <a:xfrm>
                <a:off x="4553280" y="2612880"/>
                <a:ext cx="1043640" cy="967680"/>
                <a:chOff x="4553280" y="2612880"/>
                <a:chExt cx="1043640" cy="967680"/>
              </a:xfrm>
            </p:grpSpPr>
            <p:pic>
              <p:nvPicPr>
                <p:cNvPr id="67" name="18 Flecha doblada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53280" y="2612880"/>
                  <a:ext cx="104364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4644360" y="2611440"/>
                  <a:ext cx="869040" cy="93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19 Rectángulo"/>
              <p:cNvGrpSpPr/>
              <p:nvPr/>
            </p:nvGrpSpPr>
            <p:grpSpPr>
              <a:xfrm>
                <a:off x="5354640" y="2094840"/>
                <a:ext cx="489960" cy="842400"/>
                <a:chOff x="5354640" y="2094840"/>
                <a:chExt cx="489960" cy="842400"/>
              </a:xfrm>
            </p:grpSpPr>
            <p:pic>
              <p:nvPicPr>
                <p:cNvPr id="70" name="19 Rectángul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354640" y="2094840"/>
                  <a:ext cx="489960" cy="8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5413320" y="2126880"/>
                  <a:ext cx="377640" cy="74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20 Grupo"/>
            <p:cNvGrpSpPr/>
            <p:nvPr/>
          </p:nvGrpSpPr>
          <p:grpSpPr>
            <a:xfrm>
              <a:off x="721800" y="3665880"/>
              <a:ext cx="1094400" cy="1485720"/>
              <a:chOff x="721800" y="3665880"/>
              <a:chExt cx="1094400" cy="1485720"/>
            </a:xfrm>
          </p:grpSpPr>
          <p:grpSp>
            <p:nvGrpSpPr>
              <p:cNvPr id="73" name="21 Flecha doblada"/>
              <p:cNvGrpSpPr/>
              <p:nvPr/>
            </p:nvGrpSpPr>
            <p:grpSpPr>
              <a:xfrm>
                <a:off x="1238760" y="4181760"/>
                <a:ext cx="577440" cy="969840"/>
                <a:chOff x="1238760" y="4181760"/>
                <a:chExt cx="577440" cy="969840"/>
              </a:xfrm>
            </p:grpSpPr>
            <p:pic>
              <p:nvPicPr>
                <p:cNvPr id="74" name="21 Flecha doblada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238760" y="418176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 rot="5400000">
                  <a:off x="1097640" y="441504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22 Flecha doblada"/>
              <p:cNvGrpSpPr/>
              <p:nvPr/>
            </p:nvGrpSpPr>
            <p:grpSpPr>
              <a:xfrm>
                <a:off x="721800" y="4181760"/>
                <a:ext cx="582840" cy="969840"/>
                <a:chOff x="721800" y="4181760"/>
                <a:chExt cx="582840" cy="969840"/>
              </a:xfrm>
            </p:grpSpPr>
            <p:pic>
              <p:nvPicPr>
                <p:cNvPr id="77" name="22 Flecha doblada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1800" y="418176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 rot="16200000">
                  <a:off x="584280" y="441252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23 Rectángulo"/>
              <p:cNvGrpSpPr/>
              <p:nvPr/>
            </p:nvGrpSpPr>
            <p:grpSpPr>
              <a:xfrm>
                <a:off x="1134360" y="3665880"/>
                <a:ext cx="297000" cy="844920"/>
                <a:chOff x="1134360" y="3665880"/>
                <a:chExt cx="297000" cy="844920"/>
              </a:xfrm>
            </p:grpSpPr>
            <p:pic>
              <p:nvPicPr>
                <p:cNvPr id="80" name="23 Rectángul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134360" y="3665880"/>
                  <a:ext cx="29700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1188000" y="3701880"/>
                  <a:ext cx="1922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24 Grupo"/>
            <p:cNvGrpSpPr/>
            <p:nvPr/>
          </p:nvGrpSpPr>
          <p:grpSpPr>
            <a:xfrm>
              <a:off x="2409480" y="3690000"/>
              <a:ext cx="1094400" cy="1485720"/>
              <a:chOff x="2409480" y="3690000"/>
              <a:chExt cx="1094400" cy="1485720"/>
            </a:xfrm>
          </p:grpSpPr>
          <p:grpSp>
            <p:nvGrpSpPr>
              <p:cNvPr id="83" name="25 Flecha doblada"/>
              <p:cNvGrpSpPr/>
              <p:nvPr/>
            </p:nvGrpSpPr>
            <p:grpSpPr>
              <a:xfrm>
                <a:off x="2926440" y="4205880"/>
                <a:ext cx="577440" cy="969840"/>
                <a:chOff x="2926440" y="4205880"/>
                <a:chExt cx="577440" cy="969840"/>
              </a:xfrm>
            </p:grpSpPr>
            <p:pic>
              <p:nvPicPr>
                <p:cNvPr id="84" name="25 Flecha doblada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926440" y="420588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 rot="5400000">
                  <a:off x="2784240" y="443880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26 Flecha doblada"/>
              <p:cNvGrpSpPr/>
              <p:nvPr/>
            </p:nvGrpSpPr>
            <p:grpSpPr>
              <a:xfrm>
                <a:off x="2409480" y="4205880"/>
                <a:ext cx="582840" cy="969840"/>
                <a:chOff x="2409480" y="4205880"/>
                <a:chExt cx="582840" cy="969840"/>
              </a:xfrm>
            </p:grpSpPr>
            <p:pic>
              <p:nvPicPr>
                <p:cNvPr id="87" name="26 Flecha doblada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409480" y="420588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6200000">
                  <a:off x="2270880" y="443628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27 Rectángulo"/>
              <p:cNvGrpSpPr/>
              <p:nvPr/>
            </p:nvGrpSpPr>
            <p:grpSpPr>
              <a:xfrm>
                <a:off x="2822040" y="3690000"/>
                <a:ext cx="291240" cy="844920"/>
                <a:chOff x="2822040" y="3690000"/>
                <a:chExt cx="291240" cy="844920"/>
              </a:xfrm>
            </p:grpSpPr>
            <p:pic>
              <p:nvPicPr>
                <p:cNvPr id="90" name="27 Rectángul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822040" y="3690000"/>
                  <a:ext cx="29124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>
                  <a:off x="2874600" y="3725640"/>
                  <a:ext cx="19188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28 Grupo"/>
            <p:cNvGrpSpPr/>
            <p:nvPr/>
          </p:nvGrpSpPr>
          <p:grpSpPr>
            <a:xfrm>
              <a:off x="4142520" y="3690000"/>
              <a:ext cx="1094400" cy="1485720"/>
              <a:chOff x="4142520" y="3690000"/>
              <a:chExt cx="1094400" cy="1485720"/>
            </a:xfrm>
          </p:grpSpPr>
          <p:grpSp>
            <p:nvGrpSpPr>
              <p:cNvPr id="93" name="29 Flecha doblada"/>
              <p:cNvGrpSpPr/>
              <p:nvPr/>
            </p:nvGrpSpPr>
            <p:grpSpPr>
              <a:xfrm>
                <a:off x="4656600" y="4205880"/>
                <a:ext cx="580320" cy="969840"/>
                <a:chOff x="4656600" y="4205880"/>
                <a:chExt cx="580320" cy="969840"/>
              </a:xfrm>
            </p:grpSpPr>
            <p:pic>
              <p:nvPicPr>
                <p:cNvPr id="94" name="29 Flecha doblada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56600" y="4205880"/>
                  <a:ext cx="58032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5400000">
                  <a:off x="4517280" y="4437720"/>
                  <a:ext cx="8658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30 Flecha doblada"/>
              <p:cNvGrpSpPr/>
              <p:nvPr/>
            </p:nvGrpSpPr>
            <p:grpSpPr>
              <a:xfrm>
                <a:off x="4142520" y="4205880"/>
                <a:ext cx="580320" cy="969840"/>
                <a:chOff x="4142520" y="4205880"/>
                <a:chExt cx="580320" cy="969840"/>
              </a:xfrm>
            </p:grpSpPr>
            <p:pic>
              <p:nvPicPr>
                <p:cNvPr id="97" name="30 Flecha doblada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142520" y="4205880"/>
                  <a:ext cx="58032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4002120" y="4435200"/>
                  <a:ext cx="865800" cy="4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31 Rectángulo"/>
              <p:cNvGrpSpPr/>
              <p:nvPr/>
            </p:nvGrpSpPr>
            <p:grpSpPr>
              <a:xfrm>
                <a:off x="4551480" y="3690000"/>
                <a:ext cx="298440" cy="844920"/>
                <a:chOff x="4551480" y="3690000"/>
                <a:chExt cx="298440" cy="844920"/>
              </a:xfrm>
            </p:grpSpPr>
            <p:pic>
              <p:nvPicPr>
                <p:cNvPr id="100" name="31 Rectángulo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551480" y="3690000"/>
                  <a:ext cx="29844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>
                  <a:off x="4605840" y="3725640"/>
                  <a:ext cx="19296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32 Grupo"/>
            <p:cNvGrpSpPr/>
            <p:nvPr/>
          </p:nvGrpSpPr>
          <p:grpSpPr>
            <a:xfrm>
              <a:off x="5921640" y="3690000"/>
              <a:ext cx="1094400" cy="1485720"/>
              <a:chOff x="5921640" y="3690000"/>
              <a:chExt cx="1094400" cy="1485720"/>
            </a:xfrm>
          </p:grpSpPr>
          <p:grpSp>
            <p:nvGrpSpPr>
              <p:cNvPr id="103" name="33 Flecha doblada"/>
              <p:cNvGrpSpPr/>
              <p:nvPr/>
            </p:nvGrpSpPr>
            <p:grpSpPr>
              <a:xfrm>
                <a:off x="6438600" y="4205880"/>
                <a:ext cx="577440" cy="969840"/>
                <a:chOff x="6438600" y="4205880"/>
                <a:chExt cx="577440" cy="969840"/>
              </a:xfrm>
            </p:grpSpPr>
            <p:pic>
              <p:nvPicPr>
                <p:cNvPr id="104" name="33 Flecha doblada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438600" y="420588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5400000">
                  <a:off x="6296760" y="443880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34 Flecha doblada"/>
              <p:cNvGrpSpPr/>
              <p:nvPr/>
            </p:nvGrpSpPr>
            <p:grpSpPr>
              <a:xfrm>
                <a:off x="5921640" y="4205880"/>
                <a:ext cx="582840" cy="969840"/>
                <a:chOff x="5921640" y="4205880"/>
                <a:chExt cx="582840" cy="969840"/>
              </a:xfrm>
            </p:grpSpPr>
            <p:pic>
              <p:nvPicPr>
                <p:cNvPr id="107" name="34 Flecha doblada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921640" y="420588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6200000">
                  <a:off x="5783760" y="443628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35 Rectángulo"/>
              <p:cNvGrpSpPr/>
              <p:nvPr/>
            </p:nvGrpSpPr>
            <p:grpSpPr>
              <a:xfrm>
                <a:off x="6334200" y="3690000"/>
                <a:ext cx="297000" cy="844920"/>
                <a:chOff x="6334200" y="3690000"/>
                <a:chExt cx="297000" cy="844920"/>
              </a:xfrm>
            </p:grpSpPr>
            <p:pic>
              <p:nvPicPr>
                <p:cNvPr id="110" name="35 Rectángulo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34200" y="3690000"/>
                  <a:ext cx="29700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6387120" y="3725640"/>
                  <a:ext cx="1922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36 Grupo"/>
            <p:cNvGrpSpPr/>
            <p:nvPr/>
          </p:nvGrpSpPr>
          <p:grpSpPr>
            <a:xfrm>
              <a:off x="357120" y="5218200"/>
              <a:ext cx="866520" cy="996840"/>
              <a:chOff x="357120" y="5218200"/>
              <a:chExt cx="866520" cy="996840"/>
            </a:xfrm>
          </p:grpSpPr>
          <p:grpSp>
            <p:nvGrpSpPr>
              <p:cNvPr id="113" name="37 Flecha doblada"/>
              <p:cNvGrpSpPr/>
              <p:nvPr/>
            </p:nvGrpSpPr>
            <p:grpSpPr>
              <a:xfrm>
                <a:off x="755280" y="5552280"/>
                <a:ext cx="468360" cy="662760"/>
                <a:chOff x="755280" y="5552280"/>
                <a:chExt cx="468360" cy="662760"/>
              </a:xfrm>
            </p:grpSpPr>
            <p:pic>
              <p:nvPicPr>
                <p:cNvPr id="114" name="37 Flecha doblada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5528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5400000">
                  <a:off x="70992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38 Flecha doblada"/>
              <p:cNvGrpSpPr/>
              <p:nvPr/>
            </p:nvGrpSpPr>
            <p:grpSpPr>
              <a:xfrm>
                <a:off x="357120" y="5552280"/>
                <a:ext cx="468360" cy="662760"/>
                <a:chOff x="357120" y="5552280"/>
                <a:chExt cx="468360" cy="662760"/>
              </a:xfrm>
            </p:grpSpPr>
            <p:pic>
              <p:nvPicPr>
                <p:cNvPr id="117" name="38 Flecha doblada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571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 rot="16200000">
                  <a:off x="31284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39 Rectángulo"/>
              <p:cNvGrpSpPr/>
              <p:nvPr/>
            </p:nvGrpSpPr>
            <p:grpSpPr>
              <a:xfrm>
                <a:off x="669240" y="5218200"/>
                <a:ext cx="252720" cy="580680"/>
                <a:chOff x="669240" y="5218200"/>
                <a:chExt cx="252720" cy="580680"/>
              </a:xfrm>
            </p:grpSpPr>
            <p:pic>
              <p:nvPicPr>
                <p:cNvPr id="120" name="39 Rectángulo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6924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>
                  <a:off x="72504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40 Grupo"/>
            <p:cNvGrpSpPr/>
            <p:nvPr/>
          </p:nvGrpSpPr>
          <p:grpSpPr>
            <a:xfrm>
              <a:off x="1223640" y="5218200"/>
              <a:ext cx="866520" cy="996840"/>
              <a:chOff x="1223640" y="5218200"/>
              <a:chExt cx="866520" cy="996840"/>
            </a:xfrm>
          </p:grpSpPr>
          <p:grpSp>
            <p:nvGrpSpPr>
              <p:cNvPr id="123" name="41 Flecha doblada"/>
              <p:cNvGrpSpPr/>
              <p:nvPr/>
            </p:nvGrpSpPr>
            <p:grpSpPr>
              <a:xfrm>
                <a:off x="1621800" y="5552280"/>
                <a:ext cx="468360" cy="662760"/>
                <a:chOff x="1621800" y="5552280"/>
                <a:chExt cx="468360" cy="662760"/>
              </a:xfrm>
            </p:grpSpPr>
            <p:pic>
              <p:nvPicPr>
                <p:cNvPr id="124" name="41 Flecha doblada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62180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5400000">
                  <a:off x="157716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42 Flecha doblada"/>
              <p:cNvGrpSpPr/>
              <p:nvPr/>
            </p:nvGrpSpPr>
            <p:grpSpPr>
              <a:xfrm>
                <a:off x="1223640" y="5552280"/>
                <a:ext cx="468360" cy="662760"/>
                <a:chOff x="1223640" y="5552280"/>
                <a:chExt cx="468360" cy="662760"/>
              </a:xfrm>
            </p:grpSpPr>
            <p:pic>
              <p:nvPicPr>
                <p:cNvPr id="127" name="42 Flecha doblada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22364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11800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43 Rectángulo"/>
              <p:cNvGrpSpPr/>
              <p:nvPr/>
            </p:nvGrpSpPr>
            <p:grpSpPr>
              <a:xfrm>
                <a:off x="1541160" y="5218200"/>
                <a:ext cx="247680" cy="580680"/>
                <a:chOff x="1541160" y="5218200"/>
                <a:chExt cx="247680" cy="580680"/>
              </a:xfrm>
            </p:grpSpPr>
            <p:pic>
              <p:nvPicPr>
                <p:cNvPr id="130" name="43 Rectángulo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54116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159264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44 Grupo"/>
            <p:cNvGrpSpPr/>
            <p:nvPr/>
          </p:nvGrpSpPr>
          <p:grpSpPr>
            <a:xfrm>
              <a:off x="2090160" y="5218200"/>
              <a:ext cx="866520" cy="996840"/>
              <a:chOff x="2090160" y="5218200"/>
              <a:chExt cx="866520" cy="996840"/>
            </a:xfrm>
          </p:grpSpPr>
          <p:grpSp>
            <p:nvGrpSpPr>
              <p:cNvPr id="133" name="45 Flecha doblada"/>
              <p:cNvGrpSpPr/>
              <p:nvPr/>
            </p:nvGrpSpPr>
            <p:grpSpPr>
              <a:xfrm>
                <a:off x="2488320" y="5552280"/>
                <a:ext cx="468360" cy="662760"/>
                <a:chOff x="2488320" y="5552280"/>
                <a:chExt cx="468360" cy="662760"/>
              </a:xfrm>
            </p:grpSpPr>
            <p:pic>
              <p:nvPicPr>
                <p:cNvPr id="134" name="45 Flecha doblada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4883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 rot="5400000">
                  <a:off x="24444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46 Flecha doblada"/>
              <p:cNvGrpSpPr/>
              <p:nvPr/>
            </p:nvGrpSpPr>
            <p:grpSpPr>
              <a:xfrm>
                <a:off x="2090160" y="5552280"/>
                <a:ext cx="473760" cy="662760"/>
                <a:chOff x="2090160" y="5552280"/>
                <a:chExt cx="473760" cy="662760"/>
              </a:xfrm>
            </p:grpSpPr>
            <p:pic>
              <p:nvPicPr>
                <p:cNvPr id="137" name="46 Flecha doblada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9016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 rot="16200000">
                  <a:off x="20476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47 Rectángulo"/>
              <p:cNvGrpSpPr/>
              <p:nvPr/>
            </p:nvGrpSpPr>
            <p:grpSpPr>
              <a:xfrm>
                <a:off x="2407680" y="5218200"/>
                <a:ext cx="247680" cy="580680"/>
                <a:chOff x="2407680" y="5218200"/>
                <a:chExt cx="247680" cy="580680"/>
              </a:xfrm>
            </p:grpSpPr>
            <p:pic>
              <p:nvPicPr>
                <p:cNvPr id="140" name="47 Rectángulo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40768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245988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48 Grupo"/>
            <p:cNvGrpSpPr/>
            <p:nvPr/>
          </p:nvGrpSpPr>
          <p:grpSpPr>
            <a:xfrm>
              <a:off x="2956680" y="5218200"/>
              <a:ext cx="866520" cy="996840"/>
              <a:chOff x="2956680" y="5218200"/>
              <a:chExt cx="866520" cy="996840"/>
            </a:xfrm>
          </p:grpSpPr>
          <p:grpSp>
            <p:nvGrpSpPr>
              <p:cNvPr id="143" name="49 Flecha doblada"/>
              <p:cNvGrpSpPr/>
              <p:nvPr/>
            </p:nvGrpSpPr>
            <p:grpSpPr>
              <a:xfrm>
                <a:off x="3354840" y="5552280"/>
                <a:ext cx="468360" cy="662760"/>
                <a:chOff x="3354840" y="5552280"/>
                <a:chExt cx="468360" cy="662760"/>
              </a:xfrm>
            </p:grpSpPr>
            <p:pic>
              <p:nvPicPr>
                <p:cNvPr id="144" name="49 Flecha doblada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35484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5400000">
                  <a:off x="33120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50 Flecha doblada"/>
              <p:cNvGrpSpPr/>
              <p:nvPr/>
            </p:nvGrpSpPr>
            <p:grpSpPr>
              <a:xfrm>
                <a:off x="2956680" y="5552280"/>
                <a:ext cx="473760" cy="662760"/>
                <a:chOff x="2956680" y="5552280"/>
                <a:chExt cx="473760" cy="662760"/>
              </a:xfrm>
            </p:grpSpPr>
            <p:pic>
              <p:nvPicPr>
                <p:cNvPr id="147" name="50 Flecha doblada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95668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 rot="16200000">
                  <a:off x="291492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51 Rectángulo"/>
              <p:cNvGrpSpPr/>
              <p:nvPr/>
            </p:nvGrpSpPr>
            <p:grpSpPr>
              <a:xfrm>
                <a:off x="3274200" y="5218200"/>
                <a:ext cx="252720" cy="580680"/>
                <a:chOff x="3274200" y="5218200"/>
                <a:chExt cx="252720" cy="580680"/>
              </a:xfrm>
            </p:grpSpPr>
            <p:pic>
              <p:nvPicPr>
                <p:cNvPr id="150" name="51 Rectángulo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327420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32712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52 Grupo"/>
            <p:cNvGrpSpPr/>
            <p:nvPr/>
          </p:nvGrpSpPr>
          <p:grpSpPr>
            <a:xfrm>
              <a:off x="3823560" y="5218200"/>
              <a:ext cx="866520" cy="996840"/>
              <a:chOff x="3823560" y="5218200"/>
              <a:chExt cx="866520" cy="996840"/>
            </a:xfrm>
          </p:grpSpPr>
          <p:grpSp>
            <p:nvGrpSpPr>
              <p:cNvPr id="153" name="53 Flecha doblada"/>
              <p:cNvGrpSpPr/>
              <p:nvPr/>
            </p:nvGrpSpPr>
            <p:grpSpPr>
              <a:xfrm>
                <a:off x="4221720" y="5552280"/>
                <a:ext cx="468360" cy="662760"/>
                <a:chOff x="4221720" y="5552280"/>
                <a:chExt cx="468360" cy="662760"/>
              </a:xfrm>
            </p:grpSpPr>
            <p:pic>
              <p:nvPicPr>
                <p:cNvPr id="154" name="53 Flecha doblada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2217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5400000">
                  <a:off x="41796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54 Flecha doblada"/>
              <p:cNvGrpSpPr/>
              <p:nvPr/>
            </p:nvGrpSpPr>
            <p:grpSpPr>
              <a:xfrm>
                <a:off x="3823560" y="5552280"/>
                <a:ext cx="473760" cy="662760"/>
                <a:chOff x="3823560" y="5552280"/>
                <a:chExt cx="473760" cy="662760"/>
              </a:xfrm>
            </p:grpSpPr>
            <p:pic>
              <p:nvPicPr>
                <p:cNvPr id="157" name="54 Flecha doblada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382356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6200000">
                  <a:off x="378252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55 Rectángulo"/>
              <p:cNvGrpSpPr/>
              <p:nvPr/>
            </p:nvGrpSpPr>
            <p:grpSpPr>
              <a:xfrm>
                <a:off x="4141080" y="5218200"/>
                <a:ext cx="252720" cy="580680"/>
                <a:chOff x="4141080" y="5218200"/>
                <a:chExt cx="252720" cy="580680"/>
              </a:xfrm>
            </p:grpSpPr>
            <p:pic>
              <p:nvPicPr>
                <p:cNvPr id="160" name="55 Rectángulo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414108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>
                  <a:off x="419472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56 Grupo"/>
            <p:cNvGrpSpPr/>
            <p:nvPr/>
          </p:nvGrpSpPr>
          <p:grpSpPr>
            <a:xfrm>
              <a:off x="4690080" y="5218200"/>
              <a:ext cx="866520" cy="996840"/>
              <a:chOff x="4690080" y="5218200"/>
              <a:chExt cx="866520" cy="996840"/>
            </a:xfrm>
          </p:grpSpPr>
          <p:grpSp>
            <p:nvGrpSpPr>
              <p:cNvPr id="163" name="57 Flecha doblada"/>
              <p:cNvGrpSpPr/>
              <p:nvPr/>
            </p:nvGrpSpPr>
            <p:grpSpPr>
              <a:xfrm>
                <a:off x="5091120" y="5552280"/>
                <a:ext cx="465480" cy="662760"/>
                <a:chOff x="5091120" y="5552280"/>
                <a:chExt cx="465480" cy="662760"/>
              </a:xfrm>
            </p:grpSpPr>
            <p:pic>
              <p:nvPicPr>
                <p:cNvPr id="164" name="57 Flecha doblada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091120" y="5552280"/>
                  <a:ext cx="46548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5400000">
                  <a:off x="5043240" y="5684400"/>
                  <a:ext cx="560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58 Flecha doblada"/>
              <p:cNvGrpSpPr/>
              <p:nvPr/>
            </p:nvGrpSpPr>
            <p:grpSpPr>
              <a:xfrm>
                <a:off x="4690080" y="5552280"/>
                <a:ext cx="470880" cy="662760"/>
                <a:chOff x="4690080" y="5552280"/>
                <a:chExt cx="470880" cy="662760"/>
              </a:xfrm>
            </p:grpSpPr>
            <p:pic>
              <p:nvPicPr>
                <p:cNvPr id="167" name="58 Flecha doblada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4690080" y="5552280"/>
                  <a:ext cx="47088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"/>
                <p:cNvSpPr/>
                <p:nvPr/>
              </p:nvSpPr>
              <p:spPr>
                <a:xfrm rot="16200000">
                  <a:off x="4648680" y="5682600"/>
                  <a:ext cx="56088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59 Rectángulo"/>
              <p:cNvGrpSpPr/>
              <p:nvPr/>
            </p:nvGrpSpPr>
            <p:grpSpPr>
              <a:xfrm>
                <a:off x="5005440" y="5218200"/>
                <a:ext cx="251280" cy="580680"/>
                <a:chOff x="5005440" y="5218200"/>
                <a:chExt cx="251280" cy="580680"/>
              </a:xfrm>
            </p:grpSpPr>
            <p:pic>
              <p:nvPicPr>
                <p:cNvPr id="170" name="59 Rectángulo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5005440" y="5218200"/>
                  <a:ext cx="2512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5059800" y="5250960"/>
                  <a:ext cx="14796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60 Grupo"/>
            <p:cNvGrpSpPr/>
            <p:nvPr/>
          </p:nvGrpSpPr>
          <p:grpSpPr>
            <a:xfrm>
              <a:off x="5625000" y="5218200"/>
              <a:ext cx="866520" cy="996840"/>
              <a:chOff x="5625000" y="5218200"/>
              <a:chExt cx="866520" cy="996840"/>
            </a:xfrm>
          </p:grpSpPr>
          <p:grpSp>
            <p:nvGrpSpPr>
              <p:cNvPr id="173" name="61 Flecha doblada"/>
              <p:cNvGrpSpPr/>
              <p:nvPr/>
            </p:nvGrpSpPr>
            <p:grpSpPr>
              <a:xfrm>
                <a:off x="6023160" y="5552280"/>
                <a:ext cx="468360" cy="662760"/>
                <a:chOff x="6023160" y="5552280"/>
                <a:chExt cx="468360" cy="662760"/>
              </a:xfrm>
            </p:grpSpPr>
            <p:pic>
              <p:nvPicPr>
                <p:cNvPr id="174" name="61 Flecha doblada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602316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 rot="5400000">
                  <a:off x="597852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62 Flecha doblada"/>
              <p:cNvGrpSpPr/>
              <p:nvPr/>
            </p:nvGrpSpPr>
            <p:grpSpPr>
              <a:xfrm>
                <a:off x="5625000" y="5552280"/>
                <a:ext cx="468360" cy="662760"/>
                <a:chOff x="5625000" y="5552280"/>
                <a:chExt cx="468360" cy="662760"/>
              </a:xfrm>
            </p:grpSpPr>
            <p:pic>
              <p:nvPicPr>
                <p:cNvPr id="177" name="62 Flecha doblada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562500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 rot="16200000">
                  <a:off x="558144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63 Rectángulo"/>
              <p:cNvGrpSpPr/>
              <p:nvPr/>
            </p:nvGrpSpPr>
            <p:grpSpPr>
              <a:xfrm>
                <a:off x="5942520" y="5218200"/>
                <a:ext cx="247680" cy="580680"/>
                <a:chOff x="5942520" y="5218200"/>
                <a:chExt cx="247680" cy="580680"/>
              </a:xfrm>
            </p:grpSpPr>
            <p:pic>
              <p:nvPicPr>
                <p:cNvPr id="180" name="63 Rectángulo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94252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>
                  <a:off x="599400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64 Grupo"/>
            <p:cNvGrpSpPr/>
            <p:nvPr/>
          </p:nvGrpSpPr>
          <p:grpSpPr>
            <a:xfrm>
              <a:off x="6491520" y="5218200"/>
              <a:ext cx="866520" cy="996840"/>
              <a:chOff x="6491520" y="5218200"/>
              <a:chExt cx="866520" cy="996840"/>
            </a:xfrm>
          </p:grpSpPr>
          <p:grpSp>
            <p:nvGrpSpPr>
              <p:cNvPr id="183" name="65 Flecha doblada"/>
              <p:cNvGrpSpPr/>
              <p:nvPr/>
            </p:nvGrpSpPr>
            <p:grpSpPr>
              <a:xfrm>
                <a:off x="6889680" y="5552280"/>
                <a:ext cx="468360" cy="662760"/>
                <a:chOff x="6889680" y="5552280"/>
                <a:chExt cx="468360" cy="662760"/>
              </a:xfrm>
            </p:grpSpPr>
            <p:pic>
              <p:nvPicPr>
                <p:cNvPr id="184" name="65 Flecha doblada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88968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 rot="5400000">
                  <a:off x="684576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66 Flecha doblada"/>
              <p:cNvGrpSpPr/>
              <p:nvPr/>
            </p:nvGrpSpPr>
            <p:grpSpPr>
              <a:xfrm>
                <a:off x="6491520" y="5552280"/>
                <a:ext cx="473760" cy="662760"/>
                <a:chOff x="6491520" y="5552280"/>
                <a:chExt cx="473760" cy="662760"/>
              </a:xfrm>
            </p:grpSpPr>
            <p:pic>
              <p:nvPicPr>
                <p:cNvPr id="187" name="66 Flecha doblada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649152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6200000">
                  <a:off x="64486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67 Rectángulo"/>
              <p:cNvGrpSpPr/>
              <p:nvPr/>
            </p:nvGrpSpPr>
            <p:grpSpPr>
              <a:xfrm>
                <a:off x="6809040" y="5218200"/>
                <a:ext cx="247680" cy="580680"/>
                <a:chOff x="6809040" y="5218200"/>
                <a:chExt cx="247680" cy="580680"/>
              </a:xfrm>
            </p:grpSpPr>
            <p:pic>
              <p:nvPicPr>
                <p:cNvPr id="190" name="67 Rectángulo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680904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686124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2" name="Picture 2" descr="http://tbn0.google.com/images?q=tbn:tGJGWpvKTwkn-M:http://www.minco.com.ve/jpg/productos/procesados/carneHamburguesa.jp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3357720" y="50004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bn0.google.com/images?q=tbn:_xk3eRTBe2CmwM:http://www.fotos.org/galeria/data/548/medium/amarillo-mostaza.jpg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7929720" y="785880"/>
            <a:ext cx="100008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tbn0.google.com/images?q=tbn:tYaIxBWjmzSy1M:http://www.salood.com/wp-content/uploads/2007/11/salsa_tomate.jpg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8001000" y="2571840"/>
            <a:ext cx="87012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tbn0.google.com/images?q=tbn:bcmMIuzf2GzUWM:http://imagenes.hola.com/noticias-de-actualidad/2007/08/16/pepino_imagen.jpg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8186760" y="4214880"/>
            <a:ext cx="957240" cy="81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http://tbn0.google.com/images?q=tbn:J2suJ8IZ1F4eCM:http://www.yoquierounodeesos.com/store/assets/images/product/dorwed/dorwed_alt1.jpg"/>
          <p:cNvPicPr/>
          <p:nvPr/>
        </p:nvPicPr>
        <p:blipFill>
          <a:blip r:embed="rId54"/>
          <a:stretch/>
        </p:blipFill>
        <p:spPr>
          <a:xfrm>
            <a:off x="7929720" y="5286240"/>
            <a:ext cx="1214280" cy="1214640"/>
          </a:xfrm>
          <a:prstGeom prst="rect">
            <a:avLst/>
          </a:prstGeom>
          <a:ln w="0">
            <a:noFill/>
          </a:ln>
        </p:spPr>
      </p:pic>
      <p:cxnSp>
        <p:nvCxnSpPr>
          <p:cNvPr id="197" name="69 Conector recto de flecha"/>
          <p:cNvCxnSpPr/>
          <p:nvPr/>
        </p:nvCxnSpPr>
        <p:spPr>
          <a:xfrm flipH="1" flipV="1">
            <a:off x="7214760" y="1285560"/>
            <a:ext cx="57240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8" name="70 Conector recto de flecha"/>
          <p:cNvCxnSpPr/>
          <p:nvPr/>
        </p:nvCxnSpPr>
        <p:spPr>
          <a:xfrm flipH="1" flipV="1">
            <a:off x="7286040" y="3071520"/>
            <a:ext cx="57204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9" name="71 Conector recto de flecha"/>
          <p:cNvCxnSpPr/>
          <p:nvPr/>
        </p:nvCxnSpPr>
        <p:spPr>
          <a:xfrm flipH="1" flipV="1">
            <a:off x="7357680" y="4571640"/>
            <a:ext cx="57240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72 Conector recto de flecha"/>
          <p:cNvCxnSpPr/>
          <p:nvPr/>
        </p:nvCxnSpPr>
        <p:spPr>
          <a:xfrm flipH="1" flipV="1">
            <a:off x="7428960" y="5714640"/>
            <a:ext cx="57204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1" name="73 CuadroTexto"/>
          <p:cNvSpPr/>
          <p:nvPr/>
        </p:nvSpPr>
        <p:spPr>
          <a:xfrm>
            <a:off x="2071800" y="1500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74 CuadroTexto"/>
          <p:cNvSpPr/>
          <p:nvPr/>
        </p:nvSpPr>
        <p:spPr>
          <a:xfrm>
            <a:off x="1163520" y="29494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75 CuadroTexto"/>
          <p:cNvSpPr/>
          <p:nvPr/>
        </p:nvSpPr>
        <p:spPr>
          <a:xfrm>
            <a:off x="642960" y="4643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6 CuadroTexto"/>
          <p:cNvSpPr/>
          <p:nvPr/>
        </p:nvSpPr>
        <p:spPr>
          <a:xfrm>
            <a:off x="26496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77 CuadroTexto"/>
          <p:cNvSpPr/>
          <p:nvPr/>
        </p:nvSpPr>
        <p:spPr>
          <a:xfrm>
            <a:off x="235728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8 CuadroTexto"/>
          <p:cNvSpPr/>
          <p:nvPr/>
        </p:nvSpPr>
        <p:spPr>
          <a:xfrm>
            <a:off x="114300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9 CuadroTexto"/>
          <p:cNvSpPr/>
          <p:nvPr/>
        </p:nvSpPr>
        <p:spPr>
          <a:xfrm>
            <a:off x="200016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0 CuadroTexto"/>
          <p:cNvSpPr/>
          <p:nvPr/>
        </p:nvSpPr>
        <p:spPr>
          <a:xfrm>
            <a:off x="2857680" y="56815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81 CuadroTexto"/>
          <p:cNvSpPr/>
          <p:nvPr/>
        </p:nvSpPr>
        <p:spPr>
          <a:xfrm>
            <a:off x="3714840" y="56815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2 CuadroTexto"/>
          <p:cNvSpPr/>
          <p:nvPr/>
        </p:nvSpPr>
        <p:spPr>
          <a:xfrm>
            <a:off x="4581360" y="5664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83 CuadroTexto"/>
          <p:cNvSpPr/>
          <p:nvPr/>
        </p:nvSpPr>
        <p:spPr>
          <a:xfrm>
            <a:off x="5510160" y="5664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84 CuadroTexto"/>
          <p:cNvSpPr/>
          <p:nvPr/>
        </p:nvSpPr>
        <p:spPr>
          <a:xfrm>
            <a:off x="6429240" y="56815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85 CuadroTexto"/>
          <p:cNvSpPr/>
          <p:nvPr/>
        </p:nvSpPr>
        <p:spPr>
          <a:xfrm>
            <a:off x="407196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6 CuadroTexto"/>
          <p:cNvSpPr/>
          <p:nvPr/>
        </p:nvSpPr>
        <p:spPr>
          <a:xfrm>
            <a:off x="585792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87 CuadroTexto"/>
          <p:cNvSpPr/>
          <p:nvPr/>
        </p:nvSpPr>
        <p:spPr>
          <a:xfrm>
            <a:off x="457200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88 CuadroTexto"/>
          <p:cNvSpPr/>
          <p:nvPr/>
        </p:nvSpPr>
        <p:spPr>
          <a:xfrm>
            <a:off x="5357880" y="13953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9 CuadroTexto"/>
          <p:cNvSpPr/>
          <p:nvPr/>
        </p:nvSpPr>
        <p:spPr>
          <a:xfrm>
            <a:off x="2714760" y="2857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90 CuadroTexto"/>
          <p:cNvSpPr/>
          <p:nvPr/>
        </p:nvSpPr>
        <p:spPr>
          <a:xfrm>
            <a:off x="150012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1 CuadroTexto"/>
          <p:cNvSpPr/>
          <p:nvPr/>
        </p:nvSpPr>
        <p:spPr>
          <a:xfrm>
            <a:off x="928800" y="5715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92 CuadroTexto"/>
          <p:cNvSpPr/>
          <p:nvPr/>
        </p:nvSpPr>
        <p:spPr>
          <a:xfrm>
            <a:off x="178596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93 CuadroTexto"/>
          <p:cNvSpPr/>
          <p:nvPr/>
        </p:nvSpPr>
        <p:spPr>
          <a:xfrm>
            <a:off x="318924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94 CuadroTexto"/>
          <p:cNvSpPr/>
          <p:nvPr/>
        </p:nvSpPr>
        <p:spPr>
          <a:xfrm>
            <a:off x="26431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5 CuadroTexto"/>
          <p:cNvSpPr/>
          <p:nvPr/>
        </p:nvSpPr>
        <p:spPr>
          <a:xfrm>
            <a:off x="350028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96 CuadroTexto"/>
          <p:cNvSpPr/>
          <p:nvPr/>
        </p:nvSpPr>
        <p:spPr>
          <a:xfrm>
            <a:off x="52657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7 CuadroTexto"/>
          <p:cNvSpPr/>
          <p:nvPr/>
        </p:nvSpPr>
        <p:spPr>
          <a:xfrm>
            <a:off x="4357800" y="5643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98 CuadroTexto"/>
          <p:cNvSpPr/>
          <p:nvPr/>
        </p:nvSpPr>
        <p:spPr>
          <a:xfrm>
            <a:off x="6143760" y="5643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99 CuadroTexto"/>
          <p:cNvSpPr/>
          <p:nvPr/>
        </p:nvSpPr>
        <p:spPr>
          <a:xfrm>
            <a:off x="70009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00 CuadroTexto"/>
          <p:cNvSpPr/>
          <p:nvPr/>
        </p:nvSpPr>
        <p:spPr>
          <a:xfrm>
            <a:off x="671508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01 CuadroTexto"/>
          <p:cNvSpPr/>
          <p:nvPr/>
        </p:nvSpPr>
        <p:spPr>
          <a:xfrm>
            <a:off x="492912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02 CuadroTexto"/>
          <p:cNvSpPr/>
          <p:nvPr/>
        </p:nvSpPr>
        <p:spPr>
          <a:xfrm>
            <a:off x="6143760" y="2857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¿Cuál hamburguesa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1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1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0:35:47Z</dcterms:created>
  <dc:creator>andres</dc:creator>
  <dc:description/>
  <dc:language>en-US</dc:language>
  <cp:lastModifiedBy>andres</cp:lastModifiedBy>
  <dcterms:modified xsi:type="dcterms:W3CDTF">2008-06-09T14:34:34Z</dcterms:modified>
  <cp:revision>5</cp:revision>
  <dc:subject/>
  <dc:title>Diapositiva 1</dc:title>
</cp:coreProperties>
</file>